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60E2-43D0-41D7-92CE-77B6D72F2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1736-9128-406E-9B77-39BD39AF8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9317-DFFE-4012-935D-B9F024540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992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980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992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980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8662-981B-4F7C-8A2F-859FF203E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EB47-43F8-495B-90F3-AF4AF96E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38B7D-D514-43C8-8271-BED51624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4EF73-1FE3-4D82-9416-2111BFDA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A26AD-69E7-4199-9DA0-54501AA7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4DA2D-C5F8-4409-B02F-2A5C5E0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2C56-390F-44CE-94D5-5F4F805F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6F51-E88F-4ED5-8DC3-391F9EF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BCF1-36CA-432B-96C9-D1E9CE299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C8A0E-191A-4CA5-ACF7-2FB6295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F6C3-5F21-4E40-B288-F67252F5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8609C-5A38-4D0E-BF9F-E1427871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929BB-A77F-492E-A213-5922D7A3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992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9800" y="159984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0968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992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9800" y="39085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F8017-9145-4F25-B76B-C0E55C0B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EC71-DA67-482C-BCCF-F11172F21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6CA6-38B9-45FA-9A45-1F9F9EAEB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B997-0C60-4B0F-922E-44713F298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1018-A090-4D7B-94DF-D80D533A1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E9D6-5568-4E17-9D3A-717D82823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8880" y="39085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49A5-C288-4742-9BBF-9DDE18326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8880" y="159984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39085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B843-814C-4D35-BF6D-BF9BA145D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6000" y="624492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273-D4C6-48F1-A64C-832EEF38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18590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859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0165-B8CA-4E02-9D07-6F50C470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4510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1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876920" y="774720"/>
            <a:ext cx="4114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Super Subway Sol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34340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ision model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 Dobk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zabeth Rog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o Romero de D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415 stations and 25 lines, the solution space is very large.  To find 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mutation rate = 0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opulation size =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max solutions, sub-problems, time, very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 initial data using macros to help sol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these settings, good results tak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ine calculation: 5000 sub-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ransfer calculation: 10000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transfers (2 transfers, or from one outer borough to another)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0-50000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ata sheets for rush hour, night, late-night, and part-tim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wheelchair accessibility information to data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model with distance, time, train frequenc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better solver to speed up calculation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model allows a rider to find an efficient route between any two subway stations in New York City’s MTA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uses Evolutionary Solver to generate possible sol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12pm on a weekday and you wish to travel from one station on the MTA to another as quickly as possi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willing to give solver up to three minutes to produce an answer while you are getting ready to le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 (Step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variables: the stations and lines between the starting and ending s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minimize the number of transfers and the total number of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: 1 transfer = 3 s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 (Step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ion is serviced only by certain subw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only transfer between lines at a station serviced by bot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415 stations and 25 lines in the 12pm weekd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tart and stop at the requested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09320" y="1371240"/>
            <a:ext cx="6705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records the station name, number (1-415), borough, and position on all relevant lin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16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et is th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ion we entered, and it’s th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 on the 1, th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 on the A, and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 on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4324320"/>
            <a:ext cx="6934320" cy="23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an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6324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basic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 cells are station inputs (1-415) and line inputs (1-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 cell tracks the total penalty for each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809880"/>
            <a:ext cx="6553440" cy="268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del: advanced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599840"/>
            <a:ext cx="6705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has two major logical constraints, two statements to calculate transfers and stops, and one statement to force solver to preserve trip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610480" cy="232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18:17Z</dcterms:created>
  <dc:creator>Jake</dc:creator>
  <dc:description/>
  <dc:language>en-US</dc:language>
  <cp:lastModifiedBy> </cp:lastModifiedBy>
  <dcterms:modified xsi:type="dcterms:W3CDTF">2004-11-29T13:01:0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242747</vt:r8>
  </property>
  <property fmtid="{D5CDD505-2E9C-101B-9397-08002B2CF9AE}" pid="3" name="_AuthorEmail">
    <vt:lpwstr>elizabeth.rogus@stern.nyu.edu</vt:lpwstr>
  </property>
  <property fmtid="{D5CDD505-2E9C-101B-9397-08002B2CF9AE}" pid="4" name="_AuthorEmailDisplayName">
    <vt:lpwstr>Elizabeth Rogus</vt:lpwstr>
  </property>
  <property fmtid="{D5CDD505-2E9C-101B-9397-08002B2CF9AE}" pid="5" name="_EmailSubject">
    <vt:lpwstr>Team 6 Project </vt:lpwstr>
  </property>
</Properties>
</file>